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156AF-E452-4AE0-BFD4-9E83A5A4C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400176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464C9-8D87-48EB-ACB7-134AA70A3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528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40017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40017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7503D-612B-4CC3-B798-D097A9E98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528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528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40017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40017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40017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47FF7-9E4C-467C-9ECE-9405A680B5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743EF-C594-47EA-9A3B-8FAAA6F3AB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9ADE-23AC-41BF-9DC0-5AED45FB7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903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5280"/>
            <a:ext cx="40903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2C7B3-2ACD-491F-8CEB-D658C52C5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EE3F-460E-479F-A2EC-076C37410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8F767-A302-498F-ACA6-6C9906805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5280"/>
            <a:ext cx="40903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40017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5EBB8-FAEA-4AE9-B2D5-6E2164EE4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903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528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40017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985EE-B761-4C4A-AEC5-09158E1B9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528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00176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D4E9E-E1AB-4E96-AE54-452232098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3276360" cy="3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Jan Sta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05560" y="6552720"/>
            <a:ext cx="533160" cy="3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6E94-D8E1-49EB-AB0E-83555A914D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2193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5530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1522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javalogo52x88" descr=""/>
          <p:cNvPicPr/>
          <p:nvPr/>
        </p:nvPicPr>
        <p:blipFill>
          <a:blip r:embed="rId2"/>
          <a:stretch/>
        </p:blipFill>
        <p:spPr>
          <a:xfrm>
            <a:off x="419040" y="0"/>
            <a:ext cx="495360" cy="8380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124080" y="6554880"/>
            <a:ext cx="3276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Java Course 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imitive Datatypes</a:t>
            </a:r>
            <a:br>
              <a:rPr sz="36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919080" y="1527120"/>
          <a:ext cx="7291440" cy="51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1527120"/>
                    <a:ext cx="729144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imitive Data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146F6-307B-40D6-8726-B59357F80F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Operator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ft Associa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ample "Subtractio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a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b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c = 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r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r = a - b -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ff0033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s 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ight Associa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ample "Assignment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a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b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c = 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r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r = a = b =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ff0033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e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190512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imitive Data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5791320"/>
            <a:ext cx="8382240" cy="641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associativity declares the order in which operators of the same priority are evalu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280" y="579132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79132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379EA-4B3C-407B-BDDE-8797063B9C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Operator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alue Semantics (Primitive D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a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b =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is 3, b is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a = 6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is 6, b is 3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51240" y="1295280"/>
            <a:ext cx="4816440" cy="26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ference Semantics (Obje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list1[] = {1,3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list2[] = list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1 and list2 contain {1,3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list1[0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list1[1] = 9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1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ist2 contain {2,9}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791320"/>
            <a:ext cx="8382240" cy="641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mitive data types use value semantics, whereas objects obey the reference semant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280" y="579132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79132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114800" y="144792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imitive Data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182560" y="4343400"/>
            <a:ext cx="1982160" cy="1054080"/>
            <a:chOff x="5182560" y="4343400"/>
            <a:chExt cx="1982160" cy="1054080"/>
          </a:xfrm>
        </p:grpSpPr>
        <p:sp>
          <p:nvSpPr>
            <p:cNvPr id="148" name=""/>
            <p:cNvSpPr/>
            <p:nvPr/>
          </p:nvSpPr>
          <p:spPr>
            <a:xfrm>
              <a:off x="5182560" y="434340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lis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82560" y="502920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lis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78200" y="43434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{1,3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67280" y="44956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867280" y="4647960"/>
              <a:ext cx="6098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220400" y="4343400"/>
            <a:ext cx="1285920" cy="1054080"/>
            <a:chOff x="1220400" y="4343400"/>
            <a:chExt cx="1285920" cy="1054080"/>
          </a:xfrm>
        </p:grpSpPr>
        <p:sp>
          <p:nvSpPr>
            <p:cNvPr id="154" name=""/>
            <p:cNvSpPr/>
            <p:nvPr/>
          </p:nvSpPr>
          <p:spPr>
            <a:xfrm>
              <a:off x="1220400" y="43434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20760" y="5029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11120" y="4343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00200" y="44956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0200" y="51814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11120" y="5029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B3DF-03BB-44AE-94BD-532380D82D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Operators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ithm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15 / 4;    //Integer-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(Type i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15.0 / 4;  //Float-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75 (Type dou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15 % 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Mod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(Type i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m = 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n = 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a = 2 * ++m;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b = 2 * n++;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 is 8, n is 8, a is 16, b is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imitive Data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4343400"/>
            <a:ext cx="4254480" cy="204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61784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hort forms of ope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61784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a += 4;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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a = a + 4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61784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a *= 2 + y;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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a = a * (2 + y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61784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a++;   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a = a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61784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--a;   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a = a -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61784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alid for all two-digit arithmetic Ope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17524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C617-6794-4DD3-B63D-049833A0DC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Operators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ring-Arithm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ring a = "is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ring b = "Number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   c = 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ring concatString = "This " + a +  " the " + b + " " +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oncatStri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s: "This is the number 5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a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double b = 3.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ring concatString = "Result: " + a +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ring concatString2 = a + b + " is the result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33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oncatStrin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s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"Result: 23.7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33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oncatString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s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"5.7 is the Result"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5791320"/>
            <a:ext cx="8382240" cy="641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 data that is being concatenated to a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ici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sted to the type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4760" y="577224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" y="577224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imitive Data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4C13-2707-473B-9D52-61E400D26E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Operators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boolean b = (3 != 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 is 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boolean c = (3 == 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 is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boolean d = (true &amp;&amp; fals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 is 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boolean e = (true || fals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 is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imitive Data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637240"/>
            <a:ext cx="8382240" cy="76284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gical expressions always return a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result (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ing contents should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lway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e compared using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equals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280" y="571500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71500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4572000" y="167652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80160" y="1905120"/>
            <a:ext cx="3836880" cy="31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ring s = "Java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ring t = "Java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boolean g = s.equals(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is tr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ver ever like thi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boolean f = (s == 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 is ???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Object compari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20CA-E839-4873-AE21-4CB7A8B0CD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Operators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iority of 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boolean a = false, b = false, c = true, d = true, e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boolean f_1, f_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_1 = a || b != c == d &amp;&amp; 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_2 = a || (((b!=c)==d) &amp;&amp; 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both cases, the result is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5791320"/>
            <a:ext cx="8382240" cy="641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ke use of parenthesis wherever it makes sense and contributes to the readability of a complex express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8960000">
            <a:off x="88920" y="5637960"/>
            <a:ext cx="579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imitive Data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3E8C7-A743-49DD-A256-481FEC19C1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Flow Control</a:t>
            </a:r>
            <a:br>
              <a:rPr sz="36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Block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Start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of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number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End of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 Here, the variable 'number' is not visible anymo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block can contain multiple expressions and is always being treated as a single expression itsel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5791320"/>
            <a:ext cx="8382240" cy="641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ariables that are declared inside a block statement are not visible to the outside wor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04760" y="577224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" y="577224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5D343-DB0C-4F9C-8360-7D2059DFEC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Branching (Condition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F …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f (x &lt; 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x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x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 is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y =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f (x &lt; 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x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x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 is 6, y is 1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5867280"/>
            <a:ext cx="8382240" cy="641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tements of an if-clause should be encapsulated in a block, even if it is only one stat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8960000">
            <a:off x="93600" y="5663880"/>
            <a:ext cx="579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752480"/>
            <a:ext cx="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5CE30-2028-4CF8-BCE9-90B968BE5B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876920" y="1676520"/>
            <a:ext cx="3124080" cy="259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Branching (Conditionals)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F … ELSE IF …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y =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f (x == 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lse if (x &lt; 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x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x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re can be multipl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"else if". A simple "else" can only be at the very 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6095880"/>
            <a:ext cx="8382240" cy="36684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condition of an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Statement has to be a logical expres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280" y="601992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1992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5410080" y="2057400"/>
            <a:ext cx="22100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Condition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loc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se if (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Condition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loc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lock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1523880"/>
            <a:ext cx="838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87B10-4271-4ED3-A67A-C7294D1D2E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495680" y="1676520"/>
            <a:ext cx="358164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Branching (Conditionals)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 c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 r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witch (c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se 5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 = r +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se 7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 = (2 * r) +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ault : r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 is 1 (because of default stat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1905120"/>
            <a:ext cx="29718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witch (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ComparisonValue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atement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ComparisonValue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atement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ault :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atement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523880"/>
            <a:ext cx="838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81A7-5549-4973-8BC1-3E7CCAF92E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62520" y="1600200"/>
            <a:ext cx="4800600" cy="236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Declaration and Init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boolean boolv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boolval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a,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a = 2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b = 2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c, d = 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e = 5, f = 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g = 4 *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double dblval = 3.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har charval = 'b'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ring stringval  = "Hello Java World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14800" y="1905120"/>
            <a:ext cx="4641840" cy="188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clar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atyp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Variablen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sign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Variablen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itializ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atyp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Variablen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imitive Data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791320"/>
            <a:ext cx="8458200" cy="641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va is a strong typed language. Every variable has a type, and every expression has to be type corr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280" y="579132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79132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4191120" y="1447920"/>
            <a:ext cx="838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F2FC9-DA4E-4513-A0EF-010E45FA7D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Branching (Conditionals)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 c = 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 r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witch (c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se 7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se 2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 = (2 * r) +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se 5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 is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5181480"/>
            <a:ext cx="5410080" cy="118980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f a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condition matches, all following statements are executed until a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as been found or the end of the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block has been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971800" y="3809880"/>
          <a:ext cx="228600" cy="6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809880"/>
                    <a:ext cx="22860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3276720" y="3809880"/>
            <a:ext cx="5410080" cy="91548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variable and comparison values of a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statement have to be of the type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or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no Strings!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971800" y="5181480"/>
          <a:ext cx="228600" cy="6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5181480"/>
                    <a:ext cx="22860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5942D-FF77-4296-90C4-305D4A8AAC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r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or (int i = 1; i &lt;= 4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r = r +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 is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or (int i = 1, int c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 &lt;= c; i++, c--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ystem.out.println(i+", "+c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utput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1,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2,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95680" y="137160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600200" y="4572000"/>
            <a:ext cx="6019920" cy="1371600"/>
            <a:chOff x="1600200" y="4572000"/>
            <a:chExt cx="6019920" cy="1371600"/>
          </a:xfrm>
        </p:grpSpPr>
        <p:sp>
          <p:nvSpPr>
            <p:cNvPr id="227" name=""/>
            <p:cNvSpPr/>
            <p:nvPr/>
          </p:nvSpPr>
          <p:spPr>
            <a:xfrm>
              <a:off x="1600200" y="4724640"/>
              <a:ext cx="5943600" cy="1218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2480" y="4876920"/>
              <a:ext cx="58676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for (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</a:rPr>
                <a:t>Assignment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</a:rPr>
                <a:t>Arithmetic Expression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)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</a:rPr>
                <a:t>Statement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52480" y="4572000"/>
              <a:ext cx="838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nt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5F9B1-290B-40AB-9293-767235E9B5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Loop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r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i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while (i &lt;= 4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r = r +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 is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 … 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r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i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r = r +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 while (i &lt;= 4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 is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4952880"/>
            <a:ext cx="601992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5105520"/>
            <a:ext cx="5867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hile (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atement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atemen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 while (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2480" y="4800600"/>
            <a:ext cx="838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137160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9568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5947A-111D-41E9-9595-37FBFA9DF6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Loop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while (i &lt; array.length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f (array[i] =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Command line out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ystem.out.println(array[i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while (i &lt; array.length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f (array[i] =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ontin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Command line out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ystem.out.println(array[i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5607000"/>
            <a:ext cx="3962520" cy="641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ing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results in exiting the surrounding loo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52280" y="548640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48640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4495680" y="1371600"/>
            <a:ext cx="0" cy="50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48320" y="5486400"/>
            <a:ext cx="4343400" cy="91548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ing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continu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ults in exiting the current iteration and continuing with the next iteration of the surrounding loo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D5ACE-BA77-4C6C-8497-BC0CD287F9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Classes and Objects</a:t>
            </a:r>
            <a:br>
              <a:rPr sz="36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Basic Clas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09680" y="1828440"/>
            <a:ext cx="5486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i="1" lang="de-DE" sz="2400" spc="-1" strike="noStrike">
                <a:solidFill>
                  <a:srgbClr val="000000"/>
                </a:solidFill>
                <a:latin typeface="Courier New"/>
              </a:rPr>
              <a:t>ClassName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Courier New"/>
              </a:rPr>
              <a:t>Variable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Courier New"/>
              </a:rPr>
              <a:t>Constructor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Courier New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E9DBF-0F4A-41D3-BDEF-7905E9772B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Class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xample: 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lass Employe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 of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class (without Attribu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le name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mployee.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ulting byte code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mployee.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ple class definitions in one file possible, but not desir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WEVER, there can only be one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class pe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6095880"/>
            <a:ext cx="8382240" cy="36684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lass name and file name (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*.jav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have to be iden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280" y="601992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1992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C0B60-EE2C-427A-93DB-98771F50F2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nstance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tance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lass Employe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Variable decla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ring firstName, last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salary, hireYe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ariables and constants represent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of a class or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ariables and constants can be of a primitive data type as well as an instance of a 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gregation, has-a relation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95680" y="1523880"/>
            <a:ext cx="403884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45120" y="1363680"/>
            <a:ext cx="798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182880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Class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Variable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ble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5448240" y="1257120"/>
            <a:ext cx="304560" cy="2057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6B989-1FDF-487E-8CF6-D6C61EEFAF6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nstance Attribute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tance 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lass Employe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Constant decl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inal String company = "JavaSoft Inc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rough their initialization, constants are being assigned a fixe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523880"/>
            <a:ext cx="472464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62520" y="1371600"/>
            <a:ext cx="798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182880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nal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Data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Class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Variable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ariable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5219640" y="1257120"/>
            <a:ext cx="304560" cy="2057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EE540-BB40-460F-B2E4-EB21248427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Usage of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tantiation with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Decl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mployee emp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Instan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mp1 = new Employe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mp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is a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ferenc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o the newly created instance of the class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33920" y="1523880"/>
            <a:ext cx="5029200" cy="98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9840" y="1363680"/>
            <a:ext cx="92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18288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ClassName Object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=  new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Class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6095880"/>
            <a:ext cx="8382240" cy="36684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returns a reference to a newly created instance (object) of a cl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52280" y="601992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1992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5B00-FB7D-42F7-972E-0E9B3E3F17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Usage of Classe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51818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ccessing Instance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Decla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mployee emp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Instan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mp1 = new Employe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Accessing Variables of the Object em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mp1.firstName = "Joh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mp1.lastName = "Doe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mp1.salary = 35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mp1.hireYear = 1989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s = emp1.sala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is 3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10080" y="1523880"/>
            <a:ext cx="335304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6000" y="1363680"/>
            <a:ext cx="920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167652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ObjectName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Variable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38480" y="5562720"/>
            <a:ext cx="4724640" cy="641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ariables (attributes) of an Object can be accessed using the dot-no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809880" y="556272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556272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21B1-871F-4EC5-8D7C-70389CE4831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Type C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plicit 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yte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hort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long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float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dou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a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loat b =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0033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 is 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a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double b = 3.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0033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+ b is 5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xplicit 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a = (int)3.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is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a = (int)2.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double b = 3.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+ b i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a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loat b =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float)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a; //Un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 is 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5562720"/>
            <a:ext cx="8382240" cy="641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sting can be done implicitly if no information would be</a:t>
            </a:r>
            <a:r>
              <a:rPr b="0" lang="de-DE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st. Otherwise, it has to be casted explicit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04760" y="554364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" y="554364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7360" y="1911240"/>
            <a:ext cx="3949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3716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imitive Data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F9801-2CAA-4A8D-B615-1F4D72DE2F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Constructor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tructor without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lass Employe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mployee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irstName = "Jane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lastName = "Doe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alary = 30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hireYear = 20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mployee emp1 = new Employe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 Variables have been assigned the above initial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0" y="3124080"/>
            <a:ext cx="419112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4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tivation: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of Attributes during the initializ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structor methods always have to have the same name as the class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structor methods can only be accessed in conjunction with the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structor methods have no retur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4876920"/>
            <a:ext cx="38098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1523880"/>
            <a:ext cx="213372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87920" y="1363680"/>
            <a:ext cx="920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724280" y="16765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Class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atemen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DD587-78AB-4A44-A4C4-9881FDA7064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Constructor Method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tructor with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lass Employe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mployee(String fname, String 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sal, int year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irstName = f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lastName = 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alary = s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hireYear = ye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mployee emp2 = new Employee("John", "Doe", 3500, 1989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 Variables are initialized in constructor method with given Parameter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5181480"/>
            <a:ext cx="4648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91320" y="1523880"/>
            <a:ext cx="297180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07240" y="1363680"/>
            <a:ext cx="92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43600" y="1676520"/>
            <a:ext cx="2895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Class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atemen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91320" y="3352680"/>
            <a:ext cx="3047760" cy="118980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 class can have multiple constructor methods with different parameter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= 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verloadi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562720" y="3352680"/>
          <a:ext cx="228600" cy="6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352680"/>
                    <a:ext cx="22860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DFD81-2404-4338-BEEF-3DCAE6AAD32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nstanc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tance methods without parame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d without a return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lass Employe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void prin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ystem.out.println("Name: " + firstName + " " + last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ystem.out.println("Salary: " + salar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ystem.out.println("Year of employment: " + hireYear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mp2.pr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 information of the employee is being printed 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4788000"/>
            <a:ext cx="4648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1600200"/>
            <a:ext cx="2971800" cy="152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07240" y="1440000"/>
            <a:ext cx="798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19051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id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Method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atemen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6095880"/>
            <a:ext cx="8382240" cy="36684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thods without a return value use the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key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52280" y="594360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94360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CA9F5-A078-45CA-BD1F-F4C9BBF2D22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nstance Method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tance methods with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d without a return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lass Employe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void raiseSalary (double perce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alary += (salary / 100) * perce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mp2.raiseSalary(3.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alary is now 362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4876920"/>
            <a:ext cx="4648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57800" y="1447920"/>
            <a:ext cx="350532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26000" y="1287360"/>
            <a:ext cx="798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175248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id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Method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atemen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A5285-45FD-45CE-A9A4-471947E5B4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nstance Method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tance method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 return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lass Employe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durationOfEmployment(int currentYear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Calculation of return value of type i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return (currentYear – hireYea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duration = emp2.durationOfEmployment(1998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duratio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4952880"/>
            <a:ext cx="46479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6010200"/>
            <a:ext cx="8382240" cy="36684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returned value needs to match the declared type in the method hea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52280" y="5867280"/>
          <a:ext cx="228600" cy="6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867280"/>
                    <a:ext cx="22860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3657600" y="1436760"/>
            <a:ext cx="5181480" cy="176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57880" y="1295280"/>
            <a:ext cx="799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1579680"/>
            <a:ext cx="518148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id |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atatyp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ClassName    MethodNam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Statement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ReturnVal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5400000">
            <a:off x="4831920" y="806400"/>
            <a:ext cx="241200" cy="2438280"/>
          </a:xfrm>
          <a:custGeom>
            <a:avLst/>
            <a:gdLst>
              <a:gd name="textAreaLeft" fmla="*/ 154080 w 241200"/>
              <a:gd name="textAreaRight" fmla="*/ 241560 w 241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FF157-3F67-4010-9370-951B12C3FEB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nstance Methods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rther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durationOfEmployment(int currentYear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result = currentYear - hireYe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Return value of type i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Returning the return value of a method directl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return emp1.durationOfEmployment(1998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403848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9B941-86A7-4A0B-A083-2F93A68B64D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nstance Methods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6667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rther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6667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6667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void searchEmployee(String lastNam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or (int i = 1; i &lt; allEmployees.length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f ( (allEmployees[i].lastName).equals(lastName)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ystem.out.println("FName: " + allEmployees[i].first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ystem.out.println("Lname: " + allEmployees[i].last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Exiting a void metho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return; //Makes more sense than 'break'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ystem.out.println("Name not found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FEA0C-F7D9-4DDE-AC66-0C04FAD0238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nstance Methods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rther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boolean salaryHigherThan(int amou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f (salary &gt; amou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return Statement of if-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return Statement of method-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5105520"/>
            <a:ext cx="8381880" cy="139428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 method can have multiple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tatements. Each statement has to be at the end of a blo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last statement of a method with a return vale has to be a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t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52280" y="5410080"/>
          <a:ext cx="228600" cy="6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410080"/>
                    <a:ext cx="22860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B731E-DE15-429B-9D23-84E15C0E417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nstance Methods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thod Over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stinction of methods with same name in same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rough number of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rought types of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hrough return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mployee searchEmployee(String firstNam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mployee searchEmployee(String firstName, String lastNam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searchEmployee(String 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iling err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495800">
            <a:off x="4572000" y="5257800"/>
            <a:ext cx="660240" cy="619200"/>
          </a:xfrm>
          <a:prstGeom prst="lightningBol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0D3C7-3DE6-47B5-8D9C-F6470FFB836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Class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s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lass Employe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Number of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atic int total_numb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mployee(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total_number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attribute belongs to the class, and not to the instance of that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value of a class attribute is the same across all instances of that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class attribute is visible from all methods of a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62520" y="1600200"/>
            <a:ext cx="46479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0" y="1447920"/>
            <a:ext cx="798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1752480"/>
            <a:ext cx="4724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Data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Class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Variable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0880" y="6095880"/>
            <a:ext cx="8382240" cy="36684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 instances of a class share the same class vari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52280" y="601992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1992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91153-E7DD-4000-8909-D7E0C526CD0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on 1: Declaration, Definition,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clar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[] numbers;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numbers[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numbers = new int[4];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Now, fields 0 to 3 ex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arrayLenth = numbers.length;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Getting length of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arrayLength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signing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numbers[0]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numbers[1] = 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numbers[2]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numbers[3]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imitive Data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5562720"/>
            <a:ext cx="5639040" cy="91548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pon creation of an array with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ll fields will be preassigned their default values (numeric: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; boolean: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; char: '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\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'; Objects: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819520" y="556272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556272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B26B3-6C7C-48FF-848B-EA140A4F09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Class Attribute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lass Employe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Number of all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atic int total_numb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ati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total_number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tialization block is executed only o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eful for complex initial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654840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48520" y="1676520"/>
            <a:ext cx="20574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477120" y="1523880"/>
            <a:ext cx="798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400800" y="1828800"/>
            <a:ext cx="1676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atemen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6095880"/>
            <a:ext cx="8382240" cy="36684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tatic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ements can only access other static el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52280" y="594360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94360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77A0E-AA7F-463E-9CD3-DDEC612235F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Class Attribute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s 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lass Employe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Max amount of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atic final int max_total_number = 10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ccessing Class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n = Employee.total_numb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n = Employee.max_total_numb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352680" y="1523880"/>
            <a:ext cx="52578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962520" y="1371600"/>
            <a:ext cx="798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29000" y="1676520"/>
            <a:ext cx="5181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nal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Data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Class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Variable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5181480" y="4648320"/>
            <a:ext cx="3276720" cy="761760"/>
            <a:chOff x="5181480" y="4648320"/>
            <a:chExt cx="3276720" cy="761760"/>
          </a:xfrm>
        </p:grpSpPr>
        <p:sp>
          <p:nvSpPr>
            <p:cNvPr id="378" name=""/>
            <p:cNvSpPr/>
            <p:nvPr/>
          </p:nvSpPr>
          <p:spPr>
            <a:xfrm>
              <a:off x="5181480" y="4800600"/>
              <a:ext cx="327672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15000" y="4648320"/>
              <a:ext cx="798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nt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34120" y="487692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</a:rPr>
                <a:t>ClassName 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i="1" lang="de-DE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</a:rPr>
                <a:t>VariableName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685800" y="41911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582C9-B081-4CCF-BCB0-E3B340C787D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Class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atic boolean maxReached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f (total_number &lt; max_total_number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lass methods belong to the class, not to the instances of that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lass methods can be accessed without an instance of the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y static attributes can be ac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instance of a class also has access to it‘s static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048120" y="2895480"/>
            <a:ext cx="5790960" cy="1905120"/>
            <a:chOff x="3048120" y="2895480"/>
            <a:chExt cx="5790960" cy="1905120"/>
          </a:xfrm>
        </p:grpSpPr>
        <p:sp>
          <p:nvSpPr>
            <p:cNvPr id="387" name=""/>
            <p:cNvSpPr/>
            <p:nvPr/>
          </p:nvSpPr>
          <p:spPr>
            <a:xfrm>
              <a:off x="3048120" y="3036960"/>
              <a:ext cx="5714640" cy="1763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991040" y="2895480"/>
              <a:ext cx="799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nt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48120" y="3179880"/>
              <a:ext cx="5790960" cy="15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turn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static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void | </a:t>
              </a: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| </a:t>
              </a: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</a:rPr>
                <a:t>ClassName    MethodName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</a:rPr>
                <a:t>Parameters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</a:rPr>
                <a:t>Statements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turn </a:t>
              </a: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</a:rPr>
                <a:t>ReturnValu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} 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5400000">
              <a:off x="4831920" y="2406600"/>
              <a:ext cx="241200" cy="243792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63360 h 2437920"/>
                <a:gd name="textAreaBottom" fmla="*/ 2374560 h 243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3A6FA-8AD9-4B5C-93BB-A922368DE3E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Class Method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ling Class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boolean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b = Employee.maxReach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4648320" y="1752480"/>
            <a:ext cx="4114800" cy="685800"/>
            <a:chOff x="4648320" y="1752480"/>
            <a:chExt cx="4114800" cy="685800"/>
          </a:xfrm>
        </p:grpSpPr>
        <p:sp>
          <p:nvSpPr>
            <p:cNvPr id="394" name=""/>
            <p:cNvSpPr/>
            <p:nvPr/>
          </p:nvSpPr>
          <p:spPr>
            <a:xfrm>
              <a:off x="4648320" y="1904760"/>
              <a:ext cx="41148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29200" y="1752480"/>
              <a:ext cx="798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nt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48320" y="1981080"/>
              <a:ext cx="411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</a:rPr>
                <a:t>ClassName 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ethodName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</a:rPr>
                <a:t>Parameters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9470E-4C26-4232-A64F-D3EA9096884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Class Method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JDK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t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mathematic Constants etc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th.P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th.cos(4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th.sqrt(49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lor.blac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lor.r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lor.getColor("blue“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48CE7-1531-4567-9B2B-EA15A12C4E5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lass Manager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Employe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ring department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ring secretary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Manager(String firstName, String lastName, int salary, int hireYear, String departmentName, String secretaryNam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Calls Constructor in Superclass (first statemen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(firstName, lastName, salary, hireYea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.departmentName = department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.secretaryName = secretary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523880"/>
            <a:ext cx="30481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54600" y="1363680"/>
            <a:ext cx="822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91320" y="1676520"/>
            <a:ext cx="297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ClassName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uperClassNam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{...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0880" y="6095880"/>
            <a:ext cx="8382240" cy="36684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va does not support multiple inheritance (se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Interfac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52280" y="601992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1992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47983-A796-40FA-B493-59F6AD937BD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nheritanc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verwriting Methods (compare to Overload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lass Manager extends Employe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void raiseSalary (double perce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f (perc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5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ercent = 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alary += (salary / 100) * perce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ame method name, parameters and return value as in super class (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mploye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880" y="5943600"/>
            <a:ext cx="8382240" cy="36684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al“ methods may not be overwritten (more on this lat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52280" y="577224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77224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9668B-594A-428D-A65C-7613D92A3B4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nheritance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ling overwritten Methods: The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lass Superclass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m() {...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lass Subclass extends Superclass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m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.i;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Accessing variable i from Super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.m();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Calling method m from Super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earches for first appearance of variable / method in it‘s super class hiearch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ECB40-B156-4077-A912-5532E4FFE81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nheritance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venting Inheritance: The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inal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nal 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class Superclass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lass Subclass extends Superclass {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Illega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classes cannot be extend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o prevent unwanted extensions (e.g. for security reas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o optimize compilation (see literatu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38680" y="2057400"/>
            <a:ext cx="30481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54600" y="1897200"/>
            <a:ext cx="822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791320" y="22096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na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class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ClassNam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{...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5791320"/>
            <a:ext cx="8382240" cy="641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f the extension of a class is undesired or does not make sense, it should be declared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52280" y="579132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79132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699F4-AE1A-4998-A9D1-386F87F2437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nheritance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nal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lass Employe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int durationOfEmployment(int currentYear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result = currentYear - hireYe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ethods may not be overwritten in sub classe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o prevent unwanted modifications (security measu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iler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 methods of a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class are implicitly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hemsel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0880" y="5791320"/>
            <a:ext cx="8382240" cy="641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xed methods whose modification in sub classes are undesired or do not make sense, should always be declared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52280" y="577224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77224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2971800" y="1447920"/>
            <a:ext cx="586728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971800" y="1523880"/>
            <a:ext cx="58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inal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void |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atatyp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ClassName    MethodNam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 {...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5400000">
            <a:off x="4647960" y="761760"/>
            <a:ext cx="228600" cy="2362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4080" y="1295280"/>
            <a:ext cx="822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A5EF8-A455-4AC3-889F-A1634A420A5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ray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on 2: Initialization in one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itializ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[] numbers2 = {1, 5, 3, 2};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Array has fields 0 to 3, length is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ccessing fields of an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field = numbers2[3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ield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field2 = numbers2[4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rror message: "Array Index Out Of Bounds: 4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imitive Data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04812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5715000"/>
            <a:ext cx="8382240" cy="76284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first element of an array always has the index 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 elements of an Array have to be of the same ty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280" y="571500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71500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CDFB1-E9D7-43D6-A1BC-68277F5040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nheritance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stract Classes /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class Shap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void calcArea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lass Circle extends Shap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void calcArea() {...}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Overwriting (implement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of abstract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abstract class is an interface for multiple real classes (compare to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Interfac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class that extends an abstract class has to overwrite all it‘s abstract methods, or has to be declared abstract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81480" y="1600200"/>
            <a:ext cx="35816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297400" y="1447920"/>
            <a:ext cx="1941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yntax abstr. 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34120" y="1752480"/>
            <a:ext cx="3352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bstrac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class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ClassNam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{...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81480" y="2590920"/>
            <a:ext cx="358164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34120" y="2438280"/>
            <a:ext cx="2133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yntax abstr. 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4120" y="2743200"/>
            <a:ext cx="3429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bstrac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ReturnValue MethodName(Parameters)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{...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880" y="5791320"/>
            <a:ext cx="8382240" cy="641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very class that contains at least one abstract method has to itself be declared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52280" y="577224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77224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8336A-BBA8-4781-9A79-62F7B53A347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nheritance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ample: Array of sub classes of an abstract super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lass Rectangle extends Shap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void calcArea() {...} //Overwriting the abstract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[] shapes = new Shape[2];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Array of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hapes[0] = new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(1.0, 1.0, 3.0);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Circle    = Sh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hapes[1] = new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(1.0, 3.0, 2.0);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Rectangle = Sh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Calculating the total surface of all shapes in the arr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double totalArea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or (int i = 0; i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shapes.length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totalArea += shapes[i].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calcArea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3352680"/>
            <a:ext cx="3733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BB715-1658-4024-A665-C61DBA7BFE6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ray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50292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"Multidimensional" 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ample 1: “Battleshi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coordinates[][] = new int[10][5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10 rows, 5 colum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oordinates[0][0] = 0;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oordinates[2][4] = 1;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oordinates[9][4] = 0;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vLength = coordinates.leng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vLength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 10 (Length of 1st dimen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hLength = coordinates[3].leng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hLength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 5  (Length of 2nd dimen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imitive Data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823000" y="1725480"/>
          <a:ext cx="304812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23000" y="1725480"/>
                    <a:ext cx="304812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3A43C-178F-4051-AB6D-72A382B923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rays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51055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ample 2: Asymmetric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har coordinates2[][] = {{'A','B','C'}, {'D','E'}, {'F','G','H','I'}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vLength = coordinates2.leng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vLength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 3 (Length of 1st dimen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hLength0 = coordinates2[0].leng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hLength0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 3 (Length of row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hLength1 = coordinates2[1].leng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hLength1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2 (Length of row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har coord = coordinates2[0][3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33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rror message: "Array out of bounds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imitive Data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638680" y="1333440"/>
          <a:ext cx="3213360" cy="24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333440"/>
                    <a:ext cx="321336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80880" y="6095880"/>
            <a:ext cx="8382240" cy="36684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rays of a multidimensional Array can have different length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4760" y="6000840"/>
          <a:ext cx="228600" cy="6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760" y="600084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57200" y="518148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5909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8C89-F3C4-4F7F-974F-E202AFF3EF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rays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5720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ample 3: Three Dimen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threeD[][][]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{{1,2,3,4}, {5,6}},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{{6,7,8,9,0}}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imitive Data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2680" y="4037040"/>
            <a:ext cx="8380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5835600"/>
            <a:ext cx="8382240" cy="641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ings and Arrays are actual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who differ in usage and behavior from primitive data ty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280" y="5791320"/>
          <a:ext cx="228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791320"/>
                    <a:ext cx="228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6248520" y="1905120"/>
            <a:ext cx="1751760" cy="1164600"/>
            <a:chOff x="6248520" y="1905120"/>
            <a:chExt cx="1751760" cy="1164600"/>
          </a:xfrm>
        </p:grpSpPr>
        <p:sp>
          <p:nvSpPr>
            <p:cNvPr id="104" name=""/>
            <p:cNvSpPr/>
            <p:nvPr/>
          </p:nvSpPr>
          <p:spPr>
            <a:xfrm>
              <a:off x="6351120" y="2434680"/>
              <a:ext cx="412200" cy="635040"/>
            </a:xfrm>
            <a:prstGeom prst="cube">
              <a:avLst>
                <a:gd name="adj" fmla="val 25000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60360" y="2434680"/>
              <a:ext cx="412200" cy="635040"/>
            </a:xfrm>
            <a:prstGeom prst="cube">
              <a:avLst>
                <a:gd name="adj" fmla="val 25000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51120" y="1905120"/>
              <a:ext cx="412200" cy="635040"/>
            </a:xfrm>
            <a:prstGeom prst="cube">
              <a:avLst>
                <a:gd name="adj" fmla="val 25000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60360" y="1905120"/>
              <a:ext cx="412200" cy="635040"/>
            </a:xfrm>
            <a:prstGeom prst="cube">
              <a:avLst>
                <a:gd name="adj" fmla="val 25000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69600" y="2434680"/>
              <a:ext cx="412200" cy="6350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78840" y="2434680"/>
              <a:ext cx="412200" cy="635040"/>
            </a:xfrm>
            <a:prstGeom prst="cube">
              <a:avLst>
                <a:gd name="adj" fmla="val 25000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69600" y="1905120"/>
              <a:ext cx="412200" cy="635040"/>
            </a:xfrm>
            <a:prstGeom prst="cube">
              <a:avLst>
                <a:gd name="adj" fmla="val 25000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78840" y="1905120"/>
              <a:ext cx="412200" cy="635040"/>
            </a:xfrm>
            <a:prstGeom prst="cube">
              <a:avLst>
                <a:gd name="adj" fmla="val 25000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48520" y="2010960"/>
              <a:ext cx="411840" cy="635040"/>
            </a:xfrm>
            <a:prstGeom prst="cube">
              <a:avLst>
                <a:gd name="adj" fmla="val 25000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7760" y="2010960"/>
              <a:ext cx="411840" cy="635040"/>
            </a:xfrm>
            <a:prstGeom prst="cube">
              <a:avLst>
                <a:gd name="adj" fmla="val 25000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88080" y="2434680"/>
              <a:ext cx="412200" cy="635040"/>
            </a:xfrm>
            <a:prstGeom prst="cube">
              <a:avLst>
                <a:gd name="adj" fmla="val 25000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H="1">
            <a:off x="5476680" y="1855800"/>
            <a:ext cx="29988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76920" y="1855800"/>
            <a:ext cx="0" cy="826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76920" y="185580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6800" y="265896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ray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174456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ray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76760" y="1523880"/>
            <a:ext cx="9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ray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943600" y="3048120"/>
            <a:ext cx="1143000" cy="45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2680" y="342900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hreeD[1][0][2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BB0CE-AC14-41D1-8249-41D5A44AC4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068560" y="1938240"/>
          <a:ext cx="5272200" cy="43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8560" y="1938240"/>
                    <a:ext cx="5272200" cy="43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rot="16200000">
            <a:off x="413640" y="3856320"/>
            <a:ext cx="21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 r i o r i t y  </a:t>
            </a: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1522440"/>
            <a:ext cx="548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perator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Associa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6551640"/>
            <a:ext cx="259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imitive Data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66120" y="52578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20040" y="23623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2141E-7A45-4E04-9DB0-A2B651672E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an Stanger</dc:creator>
  <dc:description/>
  <dc:language>en-US</dc:language>
  <cp:lastModifiedBy>Jan Stanger</cp:lastModifiedBy>
  <cp:lastPrinted>1998-04-13T17:08:18Z</cp:lastPrinted>
  <dcterms:modified xsi:type="dcterms:W3CDTF">2001-10-04T13:39:42Z</dcterms:modified>
  <cp:revision>1007</cp:revision>
  <dc:subject/>
  <dc:title>Java Course</dc:title>
</cp:coreProperties>
</file>